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laser.wav" ContentType="audio/x-wav"/>
  <Override PartName="/ppt/media/image39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glass.wav" ContentType="audio/x-wav"/>
  <Override PartName="/ppt/media/image5.png" ContentType="image/png"/>
  <Override PartName="/ppt/media/image42.gif" ContentType="image/gif"/>
  <Override PartName="/ppt/media/image2.png" ContentType="image/png"/>
  <Override PartName="/ppt/media/image32.png" ContentType="image/png"/>
  <Override PartName="/ppt/media/image7.png" ContentType="image/png"/>
  <Override PartName="/ppt/media/image44.gif" ContentType="image/gif"/>
  <Override PartName="/ppt/media/image25.png" ContentType="image/png"/>
  <Override PartName="/ppt/media/image35.gif" ContentType="image/gif"/>
  <Override PartName="/ppt/media/image28.png" ContentType="image/png"/>
  <Override PartName="/ppt/media/image30.png" ContentType="image/png"/>
  <Override PartName="/ppt/media/image41.png" ContentType="image/png"/>
  <Override PartName="/ppt/media/image31.png" ContentType="image/png"/>
  <Override PartName="/ppt/media/image36.gif" ContentType="image/gif"/>
  <Override PartName="/ppt/media/image29.png" ContentType="image/png"/>
  <Override PartName="/ppt/media/image34.png" ContentType="image/png"/>
  <Override PartName="/ppt/media/image9.png" ContentType="image/png"/>
  <Override PartName="/ppt/media/image37.gif" ContentType="image/gif"/>
  <Override PartName="/ppt/media/image38.gif" ContentType="image/gif"/>
  <Override PartName="/ppt/media/image8.png" ContentType="image/png"/>
  <Override PartName="/ppt/media/image6.png" ContentType="image/png"/>
  <Override PartName="/ppt/media/image43.gif" ContentType="image/gif"/>
  <Override PartName="/ppt/media/camera.wav" ContentType="audio/x-wav"/>
  <Override PartName="/ppt/media/projctor.wav" ContentType="audio/x-wav"/>
  <Override PartName="/ppt/media/image22.png" ContentType="image/png"/>
  <Override PartName="/ppt/media/image4.gif" ContentType="image/gif"/>
  <Override PartName="/ppt/media/image27.png" ContentType="image/png"/>
  <Override PartName="/ppt/media/drumroll.wav" ContentType="audio/x-wav"/>
  <Override PartName="/ppt/media/image15.png" ContentType="image/png"/>
  <Override PartName="/ppt/media/image40.gif" ContentType="image/gif"/>
  <Override PartName="/ppt/media/image33.png" ContentType="image/png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9A9D490-DADD-4D72-80F4-E1EEBB945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ty from a Position-Time Grap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= rise/run = d/t = velocity;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locity equals the slope of a distance vs. time gra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ition and Distanc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osition is defined as the separation between an object and a referen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; distance is the measured value of this separation. The units are ùm, mm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, m, and km. In the MKS system, it is the meter (m)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scalar quantity is physical quantity that can be described with only on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- the magnitude; a direction is not required. Examples are distance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, time, and temperature. Scalar is another name for a number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vector quantity is physical quantity that requires both a magnitude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rection. Examples are displacement, velocity, acceleration, and for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erage and Instantaneous Sp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peed = distance/ time or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d/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easured in m/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verage speed: , where d is the total distance an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is the total time elapsed. *Note, place a bar above 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Instantaneous speed is the speed at any instant, this quantity is what 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ometer measures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locity and Spee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velocity = displacement/time, plus the direction. , (north, south ... etc.)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Displacement is the distance between the final position and the initi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(df –di =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or plus a direction. Remember that distance is a scalar quantity and displacement is a vector quantity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You walk from A to B, then you turn around and walk back to A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____________________________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tance you traveled was 2AB; but your displacement was zero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/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(df –di) / (tf –ti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vity of Velo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ty depends on your frame of reference. For example, throwing a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ll (10 m/s) from the back of an airplane to the front of the plan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0 m/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0C5-ABEB-4F75-8620-CBBC8286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1B9-97EB-457E-90CE-3AE6D27E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379-2D59-4030-A1F7-8E26F15E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8D9-26BB-43DC-B098-BE7F8186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FA5-0E54-4440-88E2-E5B70697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037-D2A9-40DB-80BA-7C6B82F3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DF2-BBBA-4BDD-8189-66645A35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E5D-A1A6-42B9-A68A-A0496B61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E34-C8D5-4900-8E7D-219E47C6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486-5D56-4186-B1C1-B06E711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D38-0198-4719-8906-67902CB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0D9-0094-4F0B-8B4A-1E605CF0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1E6D-4CA6-43A5-B9A6-1CA0180D5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1DKin/U1L1b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easure your new yard with a meter stick so that the dimensions are 20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3cm by 30 meters±6cm. How do you make sure you will not be short ordering the perimeter fencing and the square meters of s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 of day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cal (Tip-to-Tail )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1:  Add these vectors using the tip-to-tail 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3880" y="3276720"/>
            <a:ext cx="1834920" cy="1600200"/>
            <a:chOff x="1523880" y="3276720"/>
            <a:chExt cx="1834920" cy="160020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2663640" y="3962520"/>
                  <a:ext cx="6951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 flipV="1">
              <a:off x="1523880" y="3276720"/>
              <a:ext cx="1676160" cy="1371600"/>
            </a:xfrm>
            <a:prstGeom prst="line">
              <a:avLst/>
            </a:prstGeom>
            <a:ln cap="sq" w="63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781680" y="3276720"/>
            <a:ext cx="744480" cy="1676160"/>
            <a:chOff x="6781680" y="3276720"/>
            <a:chExt cx="744480" cy="1676160"/>
          </a:xfrm>
        </p:grpSpPr>
        <p:sp>
          <p:nvSpPr>
            <p:cNvPr id="95" name=""/>
            <p:cNvSpPr/>
            <p:nvPr/>
          </p:nvSpPr>
          <p:spPr>
            <a:xfrm flipV="1">
              <a:off x="6781680" y="3276720"/>
              <a:ext cx="0" cy="1676160"/>
            </a:xfrm>
            <a:prstGeom prst="line">
              <a:avLst/>
            </a:prstGeom>
            <a:ln cap="sq" w="63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885000" y="3657600"/>
                  <a:ext cx="6411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"/>
          <p:cNvSpPr/>
          <p:nvPr/>
        </p:nvSpPr>
        <p:spPr>
          <a:xfrm>
            <a:off x="4495680" y="35812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cal (Tip-to-Tail)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495680" y="3048120"/>
            <a:ext cx="1676520" cy="3047760"/>
          </a:xfrm>
          <a:prstGeom prst="line">
            <a:avLst/>
          </a:prstGeom>
          <a:ln cap="sq" w="63360">
            <a:solidFill>
              <a:srgbClr val="ff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3581280"/>
                <a:ext cx="641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4572000" y="4648320"/>
            <a:ext cx="1835280" cy="1600200"/>
            <a:chOff x="4572000" y="4648320"/>
            <a:chExt cx="1835280" cy="16002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711760" y="5334120"/>
                  <a:ext cx="69552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 flipV="1">
              <a:off x="4572000" y="4648320"/>
              <a:ext cx="1676520" cy="1371600"/>
            </a:xfrm>
            <a:prstGeom prst="line">
              <a:avLst/>
            </a:prstGeom>
            <a:ln cap="sq" w="63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210360" y="2971440"/>
            <a:ext cx="744480" cy="1676520"/>
            <a:chOff x="6210360" y="2971440"/>
            <a:chExt cx="744480" cy="1676520"/>
          </a:xfrm>
        </p:grpSpPr>
        <p:sp>
          <p:nvSpPr>
            <p:cNvPr id="106" name=""/>
            <p:cNvSpPr/>
            <p:nvPr/>
          </p:nvSpPr>
          <p:spPr>
            <a:xfrm flipV="1">
              <a:off x="6210360" y="2971440"/>
              <a:ext cx="0" cy="1676520"/>
            </a:xfrm>
            <a:prstGeom prst="line">
              <a:avLst/>
            </a:prstGeom>
            <a:ln cap="sq" w="63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6313680" y="3352680"/>
                  <a:ext cx="6411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" name=""/>
          <p:cNvGrpSpPr/>
          <p:nvPr/>
        </p:nvGrpSpPr>
        <p:grpSpPr>
          <a:xfrm>
            <a:off x="1066680" y="2286000"/>
            <a:ext cx="2630520" cy="826920"/>
            <a:chOff x="1066680" y="2286000"/>
            <a:chExt cx="2630520" cy="826920"/>
          </a:xfrm>
        </p:grpSpPr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066680" y="2304720"/>
                  <a:ext cx="55404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2152440" y="2304720"/>
                  <a:ext cx="51120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166920" y="2286000"/>
                  <a:ext cx="5302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458720" y="23810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25760" y="238104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3962520"/>
                <a:ext cx="741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19320" y="5181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re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Resul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46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ow does one solve for displac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do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displacement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you must  decide to use either the Cartesian or polar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4800" y="3047760"/>
            <a:ext cx="5561280" cy="3593880"/>
            <a:chOff x="2134800" y="3047760"/>
            <a:chExt cx="5561280" cy="3593880"/>
          </a:xfrm>
        </p:grpSpPr>
        <p:sp>
          <p:nvSpPr>
            <p:cNvPr id="122" name=""/>
            <p:cNvSpPr/>
            <p:nvPr/>
          </p:nvSpPr>
          <p:spPr>
            <a:xfrm>
              <a:off x="2541960" y="3333240"/>
              <a:ext cx="4847760" cy="2818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96600" y="44604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85920" y="4004280"/>
              <a:ext cx="3265920" cy="17452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01400" y="5595840"/>
              <a:ext cx="170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(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87280" y="3467520"/>
              <a:ext cx="1788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71320" y="4843440"/>
              <a:ext cx="1585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 = 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– 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1960" y="6152400"/>
              <a:ext cx="51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541960" y="3047760"/>
              <a:ext cx="0" cy="310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9560" y="6060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4800" y="3064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67120" y="5665680"/>
              <a:ext cx="204120" cy="201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33040" y="3903840"/>
              <a:ext cx="204120" cy="201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escribing V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tes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istance in the x-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istance in the y-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nd in which dire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81080" y="5181480"/>
                <a:ext cx="3314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861920" y="5715000"/>
            <a:ext cx="43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easured directly from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escribing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76560" y="2273400"/>
            <a:ext cx="0" cy="230976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7160" y="4548240"/>
            <a:ext cx="0" cy="1714320"/>
          </a:xfrm>
          <a:prstGeom prst="line">
            <a:avLst/>
          </a:prstGeom>
          <a:ln w="507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0920" y="4572000"/>
            <a:ext cx="311976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6120" y="5300640"/>
            <a:ext cx="202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g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2200" y="3110040"/>
            <a:ext cx="202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g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4440" y="4110120"/>
            <a:ext cx="202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g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3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43000" y="2523960"/>
            <a:ext cx="455400" cy="905040"/>
            <a:chOff x="1143000" y="2523960"/>
            <a:chExt cx="455400" cy="905040"/>
          </a:xfrm>
        </p:grpSpPr>
        <p:sp>
          <p:nvSpPr>
            <p:cNvPr id="148" name=""/>
            <p:cNvSpPr/>
            <p:nvPr/>
          </p:nvSpPr>
          <p:spPr>
            <a:xfrm>
              <a:off x="1143000" y="2523960"/>
              <a:ext cx="0" cy="90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760" y="2871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355280" y="5013360"/>
            <a:ext cx="3812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ta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AN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Trave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 miles + 3 miles + 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7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720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escribing Dis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976560" y="2273400"/>
            <a:ext cx="0" cy="230976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7160" y="4548240"/>
            <a:ext cx="0" cy="1714320"/>
          </a:xfrm>
          <a:prstGeom prst="line">
            <a:avLst/>
          </a:prstGeom>
          <a:ln w="507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920" y="4572000"/>
            <a:ext cx="311976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43000" y="2523960"/>
            <a:ext cx="455400" cy="905040"/>
            <a:chOff x="1143000" y="2523960"/>
            <a:chExt cx="455400" cy="905040"/>
          </a:xfrm>
        </p:grpSpPr>
        <p:sp>
          <p:nvSpPr>
            <p:cNvPr id="158" name=""/>
            <p:cNvSpPr/>
            <p:nvPr/>
          </p:nvSpPr>
          <p:spPr>
            <a:xfrm>
              <a:off x="1143000" y="2523960"/>
              <a:ext cx="0" cy="90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3760" y="2871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857160" y="2333160"/>
            <a:ext cx="3095640" cy="39531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8480000">
            <a:off x="852840" y="4002480"/>
            <a:ext cx="278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cem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7080" y="1676520"/>
            <a:ext cx="38930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ing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Method (Carte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, 4)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‘horizontal’ coordinate 1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‘vertical’ coordinate 2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placement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76560" y="2273400"/>
            <a:ext cx="0" cy="230976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48240"/>
            <a:ext cx="0" cy="171432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80920" y="4572000"/>
            <a:ext cx="311976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438280"/>
            <a:ext cx="455400" cy="905040"/>
            <a:chOff x="1295280" y="2438280"/>
            <a:chExt cx="455400" cy="905040"/>
          </a:xfrm>
        </p:grpSpPr>
        <p:sp>
          <p:nvSpPr>
            <p:cNvPr id="170" name=""/>
            <p:cNvSpPr/>
            <p:nvPr/>
          </p:nvSpPr>
          <p:spPr>
            <a:xfrm>
              <a:off x="1295280" y="2438280"/>
              <a:ext cx="0" cy="90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46040" y="2786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857160" y="2333160"/>
            <a:ext cx="3095640" cy="39531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480000">
            <a:off x="852840" y="4002480"/>
            <a:ext cx="278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cem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80920" y="6286680"/>
            <a:ext cx="309564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76560" y="2333520"/>
            <a:ext cx="0" cy="39290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8320" y="5848200"/>
            <a:ext cx="107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140000">
            <a:off x="3605040" y="4072680"/>
            <a:ext cx="107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1447920"/>
            <a:ext cx="3197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Method (Po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alculate lengt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3840" y="491796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876920" y="2895480"/>
                <a:ext cx="2376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952880" y="3886200"/>
                <a:ext cx="236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4800600"/>
                <a:ext cx="2376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placement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57480" y="2286000"/>
            <a:ext cx="0" cy="230976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560840"/>
            <a:ext cx="0" cy="171468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1840" y="4584600"/>
            <a:ext cx="311976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23920" y="2536920"/>
            <a:ext cx="455400" cy="904680"/>
            <a:chOff x="1123920" y="2536920"/>
            <a:chExt cx="455400" cy="904680"/>
          </a:xfrm>
        </p:grpSpPr>
        <p:sp>
          <p:nvSpPr>
            <p:cNvPr id="190" name=""/>
            <p:cNvSpPr/>
            <p:nvPr/>
          </p:nvSpPr>
          <p:spPr>
            <a:xfrm>
              <a:off x="1123920" y="2536920"/>
              <a:ext cx="0" cy="904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74680" y="2884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838080" y="2346480"/>
            <a:ext cx="3095640" cy="3952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8480000">
            <a:off x="833760" y="4015080"/>
            <a:ext cx="278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cem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1840" y="6299280"/>
            <a:ext cx="309564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7480" y="2346480"/>
            <a:ext cx="0" cy="39290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7160" y="5634000"/>
            <a:ext cx="1285200" cy="128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66960" y="5340240"/>
            <a:ext cx="422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49240" y="5861160"/>
            <a:ext cx="107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40000">
            <a:off x="3585960" y="4085280"/>
            <a:ext cx="107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3840" y="491796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18160" y="2560680"/>
            <a:ext cx="3419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alculate the angle using trigonometric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029200" y="3975120"/>
                <a:ext cx="18194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648320" y="5027760"/>
                <a:ext cx="27144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les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les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morning part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live on a square block 500m each side. You jog 3 times around the block. What distance did you run? What was your displac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travel 30m east then 40m south. What was your displac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placement Vector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Polar No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3840" y="491796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57760" y="2870280"/>
            <a:ext cx="3540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he displacement vector by it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800600" y="4648320"/>
                <a:ext cx="3565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miles</m:t>
                    </m:r>
                    <m:r>
                      <m:t xml:space="preserve">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86240" y="2273400"/>
            <a:ext cx="3596040" cy="4633560"/>
            <a:chOff x="786240" y="2273400"/>
            <a:chExt cx="3596040" cy="4633560"/>
          </a:xfrm>
        </p:grpSpPr>
        <p:sp>
          <p:nvSpPr>
            <p:cNvPr id="211" name=""/>
            <p:cNvSpPr/>
            <p:nvPr/>
          </p:nvSpPr>
          <p:spPr>
            <a:xfrm flipV="1">
              <a:off x="3976560" y="2273400"/>
              <a:ext cx="0" cy="23097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7160" y="4548240"/>
              <a:ext cx="0" cy="17143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0920" y="4572000"/>
              <a:ext cx="31197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2523960"/>
              <a:ext cx="0" cy="90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93760" y="2871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57160" y="2333160"/>
              <a:ext cx="3095640" cy="39531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480000">
              <a:off x="852840" y="4002480"/>
              <a:ext cx="278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isplacement v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0920" y="6286680"/>
              <a:ext cx="3095640" cy="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976560" y="2333520"/>
              <a:ext cx="0" cy="39290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6240" y="5621400"/>
              <a:ext cx="1285200" cy="12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6040" y="5327640"/>
              <a:ext cx="422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8320" y="5848200"/>
              <a:ext cx="107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140000">
              <a:off x="3605040" y="4072680"/>
              <a:ext cx="107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Grap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bjectives for Grap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easure, graph, analyze, and interpret laboratory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dentify the relationships that may exist between variables (direct, inverse, and quadratic) and the graph shapes, which indicate these relationships (straight line, hyperbola, and parabo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>
            <a:lum contrast="72000"/>
          </a:blip>
          <a:srcRect l="0" t="0" r="29218" b="15224"/>
          <a:stretch/>
        </p:blipFill>
        <p:spPr>
          <a:xfrm>
            <a:off x="5105520" y="4659480"/>
            <a:ext cx="3124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ng is the pictorial relationship between qua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= any point w/in a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pe =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rise /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r 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y /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means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horizont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vertic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ll relationships involve only two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Independent Vari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the variable that you control or manip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almost always plotted on the X-a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Dependent Vari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the variable that responds to the independent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usually plotted in the Y-a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Graphical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analysis provides a tangible representation of a relationship from which you can make predictions and infer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of a substance vs.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of a car vs. brak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light vs. plant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has a tit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ale of the graph is determined by the range of the data and does not need to start at 0,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pendent variable is plotted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pendent variable is plotted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variables have names and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onstruct 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st f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e through th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inear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pendent variable varies directly with the independent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is a straight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or y = k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mx +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0" r="16005" b="14597"/>
          <a:stretch/>
        </p:blipFill>
        <p:spPr>
          <a:xfrm>
            <a:off x="4572000" y="1600200"/>
            <a:ext cx="419112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arabolic (Exponential)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endent variable varies with the square of the in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 = k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does not appear as a straight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one variable changes faster than the other resulting in a curve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2007" b="15572"/>
          <a:stretch/>
        </p:blipFill>
        <p:spPr>
          <a:xfrm>
            <a:off x="4572000" y="2819520"/>
            <a:ext cx="4191120" cy="3328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verse (Hyperbolic)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endent variable varies in the opposite direction of the in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x goes up, y goes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x or y = k/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sults in a line that starts high and ends low. It can be straight or cu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6000" t="0" r="32007" b="15572"/>
          <a:stretch/>
        </p:blipFill>
        <p:spPr>
          <a:xfrm>
            <a:off x="4876920" y="1600200"/>
            <a:ext cx="3962160" cy="345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80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Position and D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1055" t="5948" r="15577" b="53270"/>
          <a:stretch/>
        </p:blipFill>
        <p:spPr>
          <a:xfrm>
            <a:off x="1981080" y="1143000"/>
            <a:ext cx="5181840" cy="198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11786" t="50536" r="15531" b="18148"/>
          <a:stretch/>
        </p:blipFill>
        <p:spPr>
          <a:xfrm>
            <a:off x="1828800" y="4267080"/>
            <a:ext cx="59436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c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454120"/>
          <a:ext cx="8077320" cy="16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4120"/>
                    <a:ext cx="8077320" cy="16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Slope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expresses the relationship between th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y is changing as x is manip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s of the slope define the meaning of the sl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6898" r="16367" b="32765"/>
          <a:stretch/>
        </p:blipFill>
        <p:spPr>
          <a:xfrm>
            <a:off x="609480" y="1981080"/>
            <a:ext cx="39625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rea Under th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ded area is the area under the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etermine the area by adding up the areas of each triangle and squ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the units of this calculation, define what the number represents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4003" t="9441" r="28409" b="25127"/>
          <a:stretch/>
        </p:blipFill>
        <p:spPr>
          <a:xfrm>
            <a:off x="4952880" y="1981080"/>
            <a:ext cx="3505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terpolation and Extrap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p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reading or analysis (inference or prediction) of the graph from within the plotted data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trap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reading or analysis (inference or prediction) of the graph from outside of the plotted data points. This can lead to a significant source of erro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Position-Time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ng the Relationships Between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&amp;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osi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te of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te of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graph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vertic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horizont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te of 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terpreted as th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morning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osition time characteristic for uniform motion, i.e. constant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it plot 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lop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 – Time for Constant Veloc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car in motion"/>
          <p:cNvPicPr/>
          <p:nvPr/>
        </p:nvPicPr>
        <p:blipFill>
          <a:blip r:embed="rId1"/>
          <a:stretch/>
        </p:blipFill>
        <p:spPr>
          <a:xfrm>
            <a:off x="1371600" y="1506600"/>
            <a:ext cx="6172200" cy="1236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position vs. time graph"/>
          <p:cNvPicPr/>
          <p:nvPr/>
        </p:nvPicPr>
        <p:blipFill>
          <a:blip r:embed="rId2"/>
          <a:srcRect l="0" t="0" r="2470" b="0"/>
          <a:stretch/>
        </p:blipFill>
        <p:spPr>
          <a:xfrm>
            <a:off x="1447920" y="3048120"/>
            <a:ext cx="601956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 – Time for Constant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car in motion"/>
          <p:cNvPicPr/>
          <p:nvPr/>
        </p:nvPicPr>
        <p:blipFill>
          <a:blip r:embed="rId1"/>
          <a:stretch/>
        </p:blipFill>
        <p:spPr>
          <a:xfrm>
            <a:off x="1523880" y="1295280"/>
            <a:ext cx="6934320" cy="1201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graph"/>
          <p:cNvPicPr/>
          <p:nvPr/>
        </p:nvPicPr>
        <p:blipFill>
          <a:blip r:embed="rId2"/>
          <a:stretch/>
        </p:blipFill>
        <p:spPr>
          <a:xfrm>
            <a:off x="1219320" y="2889360"/>
            <a:ext cx="6019560" cy="338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 – Time for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car in motion"/>
          <p:cNvPicPr/>
          <p:nvPr/>
        </p:nvPicPr>
        <p:blipFill>
          <a:blip r:embed="rId1"/>
          <a:stretch/>
        </p:blipFill>
        <p:spPr>
          <a:xfrm>
            <a:off x="838080" y="1447920"/>
            <a:ext cx="7086600" cy="1231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position vs. time graph"/>
          <p:cNvPicPr/>
          <p:nvPr/>
        </p:nvPicPr>
        <p:blipFill>
          <a:blip r:embed="rId2"/>
          <a:stretch/>
        </p:blipFill>
        <p:spPr>
          <a:xfrm>
            <a:off x="2057400" y="3124080"/>
            <a:ext cx="4724280" cy="300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Kinema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tudy of motion without regard for the forces causing the motion o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cription of motion using: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ation of an object i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position can be described by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lo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an object is changing its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cceleration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the velocity of an object is ch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lope of Position-Time is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graph"/>
          <p:cNvPicPr/>
          <p:nvPr/>
        </p:nvPicPr>
        <p:blipFill>
          <a:blip r:embed="rId1"/>
          <a:stretch/>
        </p:blipFill>
        <p:spPr>
          <a:xfrm>
            <a:off x="533520" y="2209680"/>
            <a:ext cx="4495680" cy="2621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equation"/>
          <p:cNvPicPr/>
          <p:nvPr/>
        </p:nvPicPr>
        <p:blipFill>
          <a:blip r:embed="rId2"/>
          <a:stretch/>
        </p:blipFill>
        <p:spPr>
          <a:xfrm>
            <a:off x="533520" y="1066680"/>
            <a:ext cx="5333760" cy="1155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equation"/>
          <p:cNvPicPr/>
          <p:nvPr/>
        </p:nvPicPr>
        <p:blipFill>
          <a:blip r:embed="rId3"/>
          <a:stretch/>
        </p:blipFill>
        <p:spPr>
          <a:xfrm>
            <a:off x="5010120" y="3200400"/>
            <a:ext cx="3828960" cy="315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0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hanges in the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9680" y="4038480"/>
            <a:ext cx="337032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teep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114800" y="1143000"/>
            <a:ext cx="2496960" cy="1228680"/>
            <a:chOff x="4114800" y="1143000"/>
            <a:chExt cx="2496960" cy="1228680"/>
          </a:xfrm>
        </p:grpSpPr>
        <p:sp>
          <p:nvSpPr>
            <p:cNvPr id="283" name=""/>
            <p:cNvSpPr/>
            <p:nvPr/>
          </p:nvSpPr>
          <p:spPr>
            <a:xfrm>
              <a:off x="4114800" y="1143000"/>
              <a:ext cx="2496960" cy="1228680"/>
            </a:xfrm>
            <a:custGeom>
              <a:avLst/>
              <a:gdLst/>
              <a:ahLst/>
              <a:rect l="l" t="t" r="r" b="b"/>
              <a:pathLst>
                <a:path w="1573" h="774">
                  <a:moveTo>
                    <a:pt x="0" y="0"/>
                  </a:moveTo>
                  <a:lnTo>
                    <a:pt x="0" y="773"/>
                  </a:lnTo>
                  <a:lnTo>
                    <a:pt x="1572" y="7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392360" y="1366560"/>
              <a:ext cx="2106720" cy="75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952880" y="2514600"/>
            <a:ext cx="2496960" cy="1228680"/>
            <a:chOff x="4952880" y="2514600"/>
            <a:chExt cx="2496960" cy="1228680"/>
          </a:xfrm>
        </p:grpSpPr>
        <p:sp>
          <p:nvSpPr>
            <p:cNvPr id="286" name=""/>
            <p:cNvSpPr/>
            <p:nvPr/>
          </p:nvSpPr>
          <p:spPr>
            <a:xfrm>
              <a:off x="4952880" y="2514600"/>
              <a:ext cx="2496960" cy="1228680"/>
            </a:xfrm>
            <a:custGeom>
              <a:avLst/>
              <a:gdLst/>
              <a:ahLst/>
              <a:rect l="l" t="t" r="r" b="b"/>
              <a:pathLst>
                <a:path w="1573" h="774">
                  <a:moveTo>
                    <a:pt x="0" y="0"/>
                  </a:moveTo>
                  <a:lnTo>
                    <a:pt x="0" y="773"/>
                  </a:lnTo>
                  <a:lnTo>
                    <a:pt x="1572" y="7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64080" y="2859120"/>
              <a:ext cx="169380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619600" y="3870360"/>
            <a:ext cx="2497320" cy="1228680"/>
            <a:chOff x="5619600" y="3870360"/>
            <a:chExt cx="2497320" cy="1228680"/>
          </a:xfrm>
        </p:grpSpPr>
        <p:sp>
          <p:nvSpPr>
            <p:cNvPr id="289" name=""/>
            <p:cNvSpPr/>
            <p:nvPr/>
          </p:nvSpPr>
          <p:spPr>
            <a:xfrm>
              <a:off x="5619600" y="3870360"/>
              <a:ext cx="2497320" cy="1228680"/>
            </a:xfrm>
            <a:custGeom>
              <a:avLst/>
              <a:gdLst/>
              <a:ahLst/>
              <a:rect l="l" t="t" r="r" b="b"/>
              <a:pathLst>
                <a:path w="1573" h="774">
                  <a:moveTo>
                    <a:pt x="0" y="0"/>
                  </a:moveTo>
                  <a:lnTo>
                    <a:pt x="0" y="773"/>
                  </a:lnTo>
                  <a:lnTo>
                    <a:pt x="1572" y="7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000840" y="3881160"/>
              <a:ext cx="434880" cy="10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324480" y="5181480"/>
            <a:ext cx="2496960" cy="1228680"/>
            <a:chOff x="6324480" y="5181480"/>
            <a:chExt cx="2496960" cy="1228680"/>
          </a:xfrm>
        </p:grpSpPr>
        <p:sp>
          <p:nvSpPr>
            <p:cNvPr id="292" name=""/>
            <p:cNvSpPr/>
            <p:nvPr/>
          </p:nvSpPr>
          <p:spPr>
            <a:xfrm>
              <a:off x="6324480" y="5181480"/>
              <a:ext cx="2496960" cy="1228680"/>
            </a:xfrm>
            <a:custGeom>
              <a:avLst/>
              <a:gdLst/>
              <a:ahLst/>
              <a:rect l="l" t="t" r="r" b="b"/>
              <a:pathLst>
                <a:path w="1573" h="774">
                  <a:moveTo>
                    <a:pt x="0" y="0"/>
                  </a:moveTo>
                  <a:lnTo>
                    <a:pt x="0" y="773"/>
                  </a:lnTo>
                  <a:lnTo>
                    <a:pt x="1572" y="7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621120" y="5778000"/>
              <a:ext cx="21067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57200" y="1143000"/>
            <a:ext cx="4343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and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2743200"/>
            <a:ext cx="40384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 and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31240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98560" y="537516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5181480"/>
            <a:ext cx="495288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lat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lope Practic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velocity of the object whose graph is shown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4m/8s = -3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graph"/>
          <p:cNvPicPr/>
          <p:nvPr/>
        </p:nvPicPr>
        <p:blipFill>
          <a:blip r:embed="rId1"/>
          <a:stretch/>
        </p:blipFill>
        <p:spPr>
          <a:xfrm>
            <a:off x="1219320" y="1371600"/>
            <a:ext cx="6553080" cy="2362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lope Practic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29200" y="3124080"/>
            <a:ext cx="3733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velocity of the object whose motion is graphed at the le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m/5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graph"/>
          <p:cNvPicPr/>
          <p:nvPr/>
        </p:nvPicPr>
        <p:blipFill>
          <a:blip r:embed="rId1"/>
          <a:srcRect l="3445" t="3667" r="3445" b="4546"/>
          <a:stretch/>
        </p:blipFill>
        <p:spPr>
          <a:xfrm>
            <a:off x="762120" y="1600200"/>
            <a:ext cx="4190760" cy="388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page 52, #46,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  <a:hlinkClick r:id="rId1"/>
              </a:rPr>
              <a:t>scalar quant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ring to how fast an object is mov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st-moving object has a high speed while a slow-moving object has a low spe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with no movement at all has a zero spe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tance traveled per unit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units are meters per second (m/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705720" y="4495680"/>
                <a:ext cx="203832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ty is a vector quantity describing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plac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 unit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units are meters per second (m/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defined relative to a reference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ty describes both speed and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ing on your direction, it can be negative or positiv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verage 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distance divided by total time of travel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you would have to travel constantly to cover the same distance in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400800" y="2743200"/>
                <a:ext cx="182232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8" name="U1L1d1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05320" cy="755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324840" cy="186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verage Velo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displacement divided by total time of tra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you would have to travel constantly to cover the same displacement in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209680" y="4516560"/>
                <a:ext cx="441972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Δd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3" name="U1L1d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791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 vs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defined relative to a referenc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defined using both magnitude and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(s) is the location of an object i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s: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m,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is the separation between any two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sca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, defined only by magn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Instantaneous Veloc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verage and Insta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antaneous spe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peed at any given instant in time; speedometer reading, fo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stantaneous velo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f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what dir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e is moving at one particular point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itude of instantaneous velocity is exactly the same as instantaneous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rom a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aneous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cement versus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average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ake average between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d smaller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Until you ge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tangen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the tan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is the instant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at that poin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15120" y="834840"/>
            <a:ext cx="8075880" cy="5337000"/>
            <a:chOff x="915120" y="834840"/>
            <a:chExt cx="8075880" cy="5337000"/>
          </a:xfrm>
        </p:grpSpPr>
        <p:grpSp>
          <p:nvGrpSpPr>
            <p:cNvPr id="331" name=""/>
            <p:cNvGrpSpPr/>
            <p:nvPr/>
          </p:nvGrpSpPr>
          <p:grpSpPr>
            <a:xfrm>
              <a:off x="915120" y="834840"/>
              <a:ext cx="8075880" cy="5337000"/>
              <a:chOff x="915120" y="834840"/>
              <a:chExt cx="8075880" cy="5337000"/>
            </a:xfrm>
          </p:grpSpPr>
          <p:sp>
            <p:nvSpPr>
              <p:cNvPr id="332" name=""/>
              <p:cNvSpPr/>
              <p:nvPr/>
            </p:nvSpPr>
            <p:spPr>
              <a:xfrm>
                <a:off x="4952880" y="3352680"/>
                <a:ext cx="0" cy="281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52880" y="6171840"/>
                <a:ext cx="403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915120" y="834480"/>
                <a:ext cx="8075520" cy="533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841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84109"/>
                  </a:path>
                </a:pathLst>
              </a:cu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049000" y="3523320"/>
                <a:ext cx="3942000" cy="2648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619760" y="5257800"/>
              <a:ext cx="228600" cy="30456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H="1">
            <a:off x="6171840" y="4419720"/>
            <a:ext cx="2514600" cy="16002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934320" y="4876920"/>
            <a:ext cx="1752480" cy="106668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Proble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roblem Solution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61680" y="990720"/>
            <a:ext cx="79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sk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origin and positive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given quantities using the symbols of the equations. 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e general equation of kinematics you will be using, i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572000" y="4549680"/>
                <a:ext cx="2438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676520" y="44956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ore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the unkn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 the isolated equation using the known qua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you are answering the question as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swer may be perfectly correct for the wrong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Velocity-Time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locity – Time for Constant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car in motion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12841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graph"/>
          <p:cNvPicPr/>
          <p:nvPr/>
        </p:nvPicPr>
        <p:blipFill>
          <a:blip r:embed="rId2"/>
          <a:stretch/>
        </p:blipFill>
        <p:spPr>
          <a:xfrm>
            <a:off x="2057400" y="3182760"/>
            <a:ext cx="5562720" cy="269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locity – Time for Constant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car in motion"/>
          <p:cNvPicPr/>
          <p:nvPr/>
        </p:nvPicPr>
        <p:blipFill>
          <a:blip r:embed="rId1"/>
          <a:stretch/>
        </p:blipFill>
        <p:spPr>
          <a:xfrm>
            <a:off x="1143000" y="990720"/>
            <a:ext cx="6324480" cy="1145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3962160" cy="380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1219320" y="2514600"/>
          <a:ext cx="2819160" cy="3625920"/>
        </p:xfrm>
        <a:graphic>
          <a:graphicData uri="http://schemas.openxmlformats.org/drawingml/2006/table">
            <a:tbl>
              <a:tblPr/>
              <a:tblGrid>
                <a:gridCol w="1092240"/>
                <a:gridCol w="1726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ty(m/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locity – Time for Zero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car in motion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200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733920" y="2666880"/>
            <a:ext cx="4876560" cy="34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1219320" y="2666880"/>
          <a:ext cx="2590560" cy="3554640"/>
        </p:xfrm>
        <a:graphic>
          <a:graphicData uri="http://schemas.openxmlformats.org/drawingml/2006/table">
            <a:tbl>
              <a:tblPr/>
              <a:tblGrid>
                <a:gridCol w="1004760"/>
                <a:gridCol w="1585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ty(m/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is a Scal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alar is a quantity that is described only by magnitude…such as dist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may have units e.g.  kg (it may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does not have an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may have a sign +ve or -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may be real, or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Jacksonville to Baldwin is 10 kilo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rea Under Velocity-Tim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ded area is representative of the distance traveled by the object during the time interval from 0 seconds to 6 seco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graph"/>
          <p:cNvPicPr/>
          <p:nvPr/>
        </p:nvPicPr>
        <p:blipFill>
          <a:blip r:embed="rId1"/>
          <a:stretch/>
        </p:blipFill>
        <p:spPr>
          <a:xfrm>
            <a:off x="5181480" y="2328840"/>
            <a:ext cx="3276720" cy="254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rea Under Velocity-Tim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ded area is representative of the distance traveled by the object during the time interval from 0 seconds to 4 seco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47032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graph"/>
          <p:cNvPicPr/>
          <p:nvPr/>
        </p:nvPicPr>
        <p:blipFill>
          <a:blip r:embed="rId1"/>
          <a:stretch/>
        </p:blipFill>
        <p:spPr>
          <a:xfrm>
            <a:off x="5410080" y="2979720"/>
            <a:ext cx="3276720" cy="25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rea Under Velocity-Tim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ded area is representative of the distance traveled by the object during the time interval from 2 seconds to 5 seco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68596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graph"/>
          <p:cNvPicPr/>
          <p:nvPr/>
        </p:nvPicPr>
        <p:blipFill>
          <a:blip r:embed="rId1"/>
          <a:stretch/>
        </p:blipFill>
        <p:spPr>
          <a:xfrm>
            <a:off x="5486400" y="2927520"/>
            <a:ext cx="3276720" cy="25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onstant Positive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762120" y="1849320"/>
            <a:ext cx="7924680" cy="41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onstant Negative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838080" y="1355760"/>
            <a:ext cx="7772400" cy="420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ve Velocity Positiv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96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ve Velocity Negativ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38080" y="1963800"/>
            <a:ext cx="7848720" cy="39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egative Velocity Negativ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229600" cy="421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egative Velocity Positiv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peeding Up &amp; Slowing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graph"/>
          <p:cNvPicPr/>
          <p:nvPr/>
        </p:nvPicPr>
        <p:blipFill>
          <a:blip r:embed="rId1"/>
          <a:stretch/>
        </p:blipFill>
        <p:spPr>
          <a:xfrm>
            <a:off x="914400" y="1143000"/>
            <a:ext cx="7620120" cy="3382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38080" y="4876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e acceleration can mean speeding up or slowing down. The same is true with positive accel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placem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objects displacement is defined as the separation between an object and a referenc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ntity, defined by magnitude and dire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cement is the change in position of an object (d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95680" y="3962160"/>
            <a:ext cx="3657600" cy="1981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86728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9600" y="3276720"/>
            <a:ext cx="41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7520" y="5715000"/>
            <a:ext cx="168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2320" y="4191120"/>
            <a:ext cx="2666160" cy="520560"/>
            <a:chOff x="1372320" y="4191120"/>
            <a:chExt cx="2666160" cy="520560"/>
          </a:xfrm>
        </p:grpSpPr>
        <p:sp>
          <p:nvSpPr>
            <p:cNvPr id="75" name=""/>
            <p:cNvSpPr/>
            <p:nvPr/>
          </p:nvSpPr>
          <p:spPr>
            <a:xfrm>
              <a:off x="1372320" y="4191120"/>
              <a:ext cx="26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placement = 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33920" y="4267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640840" y="4572000"/>
            <a:ext cx="379080" cy="459720"/>
            <a:chOff x="5640840" y="4572000"/>
            <a:chExt cx="379080" cy="459720"/>
          </a:xfrm>
        </p:grpSpPr>
        <p:sp>
          <p:nvSpPr>
            <p:cNvPr id="78" name=""/>
            <p:cNvSpPr/>
            <p:nvPr/>
          </p:nvSpPr>
          <p:spPr>
            <a:xfrm>
              <a:off x="5640840" y="457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15000" y="4572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ng Lane – Position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Anim'n of Fast and Slow Car"/>
          <p:cNvPicPr/>
          <p:nvPr/>
        </p:nvPicPr>
        <p:blipFill>
          <a:blip r:embed="rId1"/>
          <a:stretch/>
        </p:blipFill>
        <p:spPr>
          <a:xfrm>
            <a:off x="990720" y="1371600"/>
            <a:ext cx="7315200" cy="437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assing Lane – Velocity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Animation of two cars with v-t Graphs"/>
          <p:cNvPicPr/>
          <p:nvPr/>
        </p:nvPicPr>
        <p:blipFill>
          <a:blip r:embed="rId1"/>
          <a:stretch/>
        </p:blipFill>
        <p:spPr>
          <a:xfrm>
            <a:off x="990720" y="1295280"/>
            <a:ext cx="7467480" cy="4992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ctor Addition in One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447920" y="1776240"/>
            <a:ext cx="58672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han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page 55 do multiple choice practic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physicspp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ector is a quantity that must be describ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gnitude and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r quantity in unit of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meters, 5 New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ss direction: North, South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: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positive x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ow drawn to scale used to represent a vector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809880" y="2361960"/>
            <a:ext cx="2210040" cy="99036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76920" y="3886200"/>
                <a:ext cx="12477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962520"/>
            <a:ext cx="358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02:42:53Z</dcterms:created>
  <dc:creator>Division of Technology</dc:creator>
  <dc:description/>
  <dc:language>en-US</dc:language>
  <cp:lastModifiedBy>DCPS</cp:lastModifiedBy>
  <dcterms:modified xsi:type="dcterms:W3CDTF">2007-08-24T13:55:05Z</dcterms:modified>
  <cp:revision>88</cp:revision>
  <dc:subject/>
  <dc:title>Math:  The Language of Physics</dc:title>
</cp:coreProperties>
</file>